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65C-4C64-4621-8CD7-BEECF70E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865-459A-499C-A861-C1A7A8B5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4FC-C29C-48B4-9AC1-E0733719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8CC-B5D4-49FE-B41B-E76DF69E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75A-7B72-480B-A9C7-B00FAF0B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055-E1EB-43F3-8319-D9A1F95F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8A2-0733-4614-854F-3F556122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E32-8D8B-4CFC-BEFA-8A23CA66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7B1-E487-4F22-9E3B-74ED4DC6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CE9-B24C-445C-94DF-9C7CB1A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AD8-3BCA-4B9D-9E22-D5FC976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B4D-E218-4E17-9FAC-18140E1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AA8E-C347-4308-9442-0CBAD4C91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3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8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3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1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29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8760" y="1965240"/>
            <a:ext cx="4686480" cy="293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5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8760" y="1969920"/>
            <a:ext cx="4686480" cy="2924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6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8760" y="1974960"/>
            <a:ext cx="4686480" cy="291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41400" y="54864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7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5:37Z</dcterms:created>
  <dc:creator>Mark S. Spencer</dc:creator>
  <dc:description/>
  <dc:language>en-US</dc:language>
  <cp:lastModifiedBy>Mark S. Spencer</cp:lastModifiedBy>
  <dcterms:modified xsi:type="dcterms:W3CDTF">2008-12-06T16:20:46Z</dcterms:modified>
  <cp:revision>20</cp:revision>
  <dc:subject/>
  <dc:title>Slide 1</dc:title>
</cp:coreProperties>
</file>